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D03-C042-4D2E-BA23-770870C9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234A-C7FC-4A1F-A1C2-936E07CD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7A1-CADD-426F-A2FC-F973750F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B5B-F727-4646-A851-591E1680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02B-9738-482C-B507-796D551E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B1A-F630-4F5D-9077-1C1737E1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21A-9111-4E08-A034-ED1990A2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D9C-E86F-450E-9FEB-B9D9BEE3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947-32EA-4B7B-A6D6-CCB04FBE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8149-9E37-4790-99A3-DFDEAA08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2D9C-08A9-4F2D-A979-0E2FDEFF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62F-AFCE-4853-9974-64A9D6F0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CB10-2AD9-400D-ACB3-27FCA7B32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89000"/>
            <a:ext cx="165564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2 5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3 5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4 5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3 6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0720" y="404640"/>
            <a:ext cx="28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3440" y="83664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52000" y="4508640"/>
            <a:ext cx="1006560" cy="520200"/>
            <a:chOff x="252000" y="4508640"/>
            <a:chExt cx="1006560" cy="520200"/>
          </a:xfrm>
        </p:grpSpPr>
        <p:sp>
          <p:nvSpPr>
            <p:cNvPr id="45" name=""/>
            <p:cNvSpPr/>
            <p:nvPr/>
          </p:nvSpPr>
          <p:spPr>
            <a:xfrm>
              <a:off x="252000" y="4508640"/>
              <a:ext cx="28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8280" y="5020560"/>
              <a:ext cx="98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80720" y="1197000"/>
            <a:ext cx="1366920" cy="794520"/>
            <a:chOff x="180720" y="1197000"/>
            <a:chExt cx="1366920" cy="794520"/>
          </a:xfrm>
        </p:grpSpPr>
        <p:sp>
          <p:nvSpPr>
            <p:cNvPr id="48" name=""/>
            <p:cNvSpPr/>
            <p:nvPr/>
          </p:nvSpPr>
          <p:spPr>
            <a:xfrm>
              <a:off x="324000" y="1197000"/>
              <a:ext cx="12236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3 6 9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1 0 0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80720" y="1471320"/>
              <a:ext cx="1108080" cy="520200"/>
              <a:chOff x="180720" y="1471320"/>
              <a:chExt cx="1108080" cy="520200"/>
            </a:xfrm>
          </p:grpSpPr>
          <p:sp>
            <p:nvSpPr>
              <p:cNvPr id="50" name=""/>
              <p:cNvSpPr/>
              <p:nvPr/>
            </p:nvSpPr>
            <p:spPr>
              <a:xfrm>
                <a:off x="180720" y="1471320"/>
                <a:ext cx="284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09520" y="193176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" name=""/>
          <p:cNvGrpSpPr/>
          <p:nvPr/>
        </p:nvGrpSpPr>
        <p:grpSpPr>
          <a:xfrm>
            <a:off x="109440" y="2349360"/>
            <a:ext cx="1366920" cy="794520"/>
            <a:chOff x="109440" y="2349360"/>
            <a:chExt cx="1366920" cy="794520"/>
          </a:xfrm>
        </p:grpSpPr>
        <p:sp>
          <p:nvSpPr>
            <p:cNvPr id="53" name=""/>
            <p:cNvSpPr/>
            <p:nvPr/>
          </p:nvSpPr>
          <p:spPr>
            <a:xfrm>
              <a:off x="252720" y="2349360"/>
              <a:ext cx="12236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9 0 0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5 5 5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09440" y="2623680"/>
              <a:ext cx="1108080" cy="520200"/>
              <a:chOff x="109440" y="2623680"/>
              <a:chExt cx="1108080" cy="520200"/>
            </a:xfrm>
          </p:grpSpPr>
          <p:sp>
            <p:nvSpPr>
              <p:cNvPr id="55" name=""/>
              <p:cNvSpPr/>
              <p:nvPr/>
            </p:nvSpPr>
            <p:spPr>
              <a:xfrm>
                <a:off x="109440" y="2623680"/>
                <a:ext cx="284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8240" y="308412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109440" y="3357720"/>
            <a:ext cx="1366920" cy="794520"/>
            <a:chOff x="109440" y="3357720"/>
            <a:chExt cx="1366920" cy="794520"/>
          </a:xfrm>
        </p:grpSpPr>
        <p:sp>
          <p:nvSpPr>
            <p:cNvPr id="58" name=""/>
            <p:cNvSpPr/>
            <p:nvPr/>
          </p:nvSpPr>
          <p:spPr>
            <a:xfrm>
              <a:off x="252720" y="3357720"/>
              <a:ext cx="12236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5 2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6 9 3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09440" y="3632040"/>
              <a:ext cx="1108080" cy="520200"/>
              <a:chOff x="109440" y="3632040"/>
              <a:chExt cx="1108080" cy="520200"/>
            </a:xfrm>
          </p:grpSpPr>
          <p:sp>
            <p:nvSpPr>
              <p:cNvPr id="60" name=""/>
              <p:cNvSpPr/>
              <p:nvPr/>
            </p:nvSpPr>
            <p:spPr>
              <a:xfrm>
                <a:off x="109440" y="3632040"/>
                <a:ext cx="284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8240" y="409248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"/>
          <p:cNvGrpSpPr/>
          <p:nvPr/>
        </p:nvGrpSpPr>
        <p:grpSpPr>
          <a:xfrm>
            <a:off x="180720" y="5373720"/>
            <a:ext cx="1366920" cy="794520"/>
            <a:chOff x="180720" y="5373720"/>
            <a:chExt cx="1366920" cy="794520"/>
          </a:xfrm>
        </p:grpSpPr>
        <p:sp>
          <p:nvSpPr>
            <p:cNvPr id="63" name=""/>
            <p:cNvSpPr/>
            <p:nvPr/>
          </p:nvSpPr>
          <p:spPr>
            <a:xfrm>
              <a:off x="324000" y="5373720"/>
              <a:ext cx="12236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2 8 9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6 0 0 9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180720" y="5648040"/>
              <a:ext cx="1108080" cy="520200"/>
              <a:chOff x="180720" y="5648040"/>
              <a:chExt cx="1108080" cy="520200"/>
            </a:xfrm>
          </p:grpSpPr>
          <p:sp>
            <p:nvSpPr>
              <p:cNvPr id="65" name=""/>
              <p:cNvSpPr/>
              <p:nvPr/>
            </p:nvSpPr>
            <p:spPr>
              <a:xfrm>
                <a:off x="180720" y="5648040"/>
                <a:ext cx="284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09520" y="610848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"/>
          <p:cNvSpPr/>
          <p:nvPr/>
        </p:nvSpPr>
        <p:spPr>
          <a:xfrm>
            <a:off x="1620720" y="40464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73080" y="836640"/>
            <a:ext cx="4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20720" y="1197000"/>
            <a:ext cx="1366920" cy="794520"/>
            <a:chOff x="1620720" y="1197000"/>
            <a:chExt cx="1366920" cy="794520"/>
          </a:xfrm>
        </p:grpSpPr>
        <p:sp>
          <p:nvSpPr>
            <p:cNvPr id="70" name=""/>
            <p:cNvSpPr/>
            <p:nvPr/>
          </p:nvSpPr>
          <p:spPr>
            <a:xfrm>
              <a:off x="1764000" y="1197000"/>
              <a:ext cx="12236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3 6 9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1 0 0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620720" y="1471320"/>
              <a:ext cx="1108080" cy="520200"/>
              <a:chOff x="1620720" y="1471320"/>
              <a:chExt cx="1108080" cy="520200"/>
            </a:xfrm>
          </p:grpSpPr>
          <p:sp>
            <p:nvSpPr>
              <p:cNvPr id="72" name=""/>
              <p:cNvSpPr/>
              <p:nvPr/>
            </p:nvSpPr>
            <p:spPr>
              <a:xfrm>
                <a:off x="1620720" y="1471320"/>
                <a:ext cx="240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49520" y="193176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1549080" y="2349360"/>
            <a:ext cx="1366920" cy="794520"/>
            <a:chOff x="1549080" y="2349360"/>
            <a:chExt cx="1366920" cy="794520"/>
          </a:xfrm>
        </p:grpSpPr>
        <p:sp>
          <p:nvSpPr>
            <p:cNvPr id="75" name=""/>
            <p:cNvSpPr/>
            <p:nvPr/>
          </p:nvSpPr>
          <p:spPr>
            <a:xfrm>
              <a:off x="1692360" y="2349360"/>
              <a:ext cx="12236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9 0 0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5 5 5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1549080" y="2623680"/>
              <a:ext cx="1108080" cy="520200"/>
              <a:chOff x="1549080" y="2623680"/>
              <a:chExt cx="1108080" cy="520200"/>
            </a:xfrm>
          </p:grpSpPr>
          <p:sp>
            <p:nvSpPr>
              <p:cNvPr id="77" name=""/>
              <p:cNvSpPr/>
              <p:nvPr/>
            </p:nvSpPr>
            <p:spPr>
              <a:xfrm>
                <a:off x="1549080" y="2623680"/>
                <a:ext cx="240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577880" y="308412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1549080" y="3357720"/>
            <a:ext cx="1366920" cy="794520"/>
            <a:chOff x="1549080" y="3357720"/>
            <a:chExt cx="1366920" cy="794520"/>
          </a:xfrm>
        </p:grpSpPr>
        <p:sp>
          <p:nvSpPr>
            <p:cNvPr id="80" name=""/>
            <p:cNvSpPr/>
            <p:nvPr/>
          </p:nvSpPr>
          <p:spPr>
            <a:xfrm>
              <a:off x="1692360" y="3357720"/>
              <a:ext cx="12236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5 2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2 9 3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549080" y="3632040"/>
              <a:ext cx="1108080" cy="520200"/>
              <a:chOff x="1549080" y="3632040"/>
              <a:chExt cx="1108080" cy="520200"/>
            </a:xfrm>
          </p:grpSpPr>
          <p:sp>
            <p:nvSpPr>
              <p:cNvPr id="82" name=""/>
              <p:cNvSpPr/>
              <p:nvPr/>
            </p:nvSpPr>
            <p:spPr>
              <a:xfrm>
                <a:off x="1549080" y="3632040"/>
                <a:ext cx="240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577880" y="409248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1818000" y="6516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8 9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 7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4437000"/>
            <a:ext cx="94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 0 0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5 1 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7800" y="4508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63640" y="501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5445000"/>
            <a:ext cx="94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5 0 0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 9 9 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7800" y="5516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602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87800" y="136440"/>
            <a:ext cx="3771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cribe las cantidades con le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7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cribe las cantidades con nu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il doscientos u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vecientos sesenta y si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inco mil quin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ueve mil ciento veinticua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is mil seiscientos setenta y sie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06:56Z</dcterms:created>
  <dc:creator>Usuario</dc:creator>
  <dc:description/>
  <dc:language>en-US</dc:language>
  <cp:lastModifiedBy>Usuario</cp:lastModifiedBy>
  <dcterms:modified xsi:type="dcterms:W3CDTF">2008-01-25T17:40:12Z</dcterms:modified>
  <cp:revision>2</cp:revision>
  <dc:subject/>
  <dc:title>Diapositiva 1</dc:title>
</cp:coreProperties>
</file>